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9C1-2A19-4909-9FE2-A903A4E7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664-5618-4B1B-94C6-2F7BD9F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A8A-7D4C-49B3-AB2F-75F3DF99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AD2-DA51-41C7-BEA7-07D84DAF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4C4-3808-4308-BE4F-EA3D2A5A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5A3-2D16-4A8D-9929-F39221E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7DD-49CF-4B16-B5A0-9E88CDB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76B-7031-40EE-97DD-BAA7E7B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9DD-E40C-426F-B282-F84D6DE5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01D-3EAA-43D7-946C-10B4011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624-272F-4F40-B968-1E40D05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2DB-B998-4488-8429-FAE731C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263D-D76E-43F7-BB1B-8E75F92D8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266652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mhar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Orom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enshangu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Un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on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CGI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No Federal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&amp;E and learn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rterly report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M&amp;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Community based M&amp;E – eg. FREG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supervision and monitoring by actors/stakeholder plat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participatory M&amp;E methods/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tfor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ing tools – WAT-a-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E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dio or mobile tech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keholder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latfor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5" descr=""/>
          <p:cNvPicPr/>
          <p:nvPr/>
        </p:nvPicPr>
        <p:blipFill>
          <a:blip r:embed="rId1"/>
          <a:stretch/>
        </p:blipFill>
        <p:spPr>
          <a:xfrm>
            <a:off x="219240" y="1298520"/>
            <a:ext cx="6194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gram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0" y="1371600"/>
            <a:ext cx="2057400" cy="825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undary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934320" y="2743200"/>
            <a:ext cx="1933560" cy="22885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ill.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8"/>
          <p:cNvSpPr/>
          <p:nvPr/>
        </p:nvSpPr>
        <p:spPr>
          <a:xfrm>
            <a:off x="7848720" y="22096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gram Topi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Community Based Integrated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Sustainable Adoption of Best Practices of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ation and Scaling out of Best Practices of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33520" y="1295280"/>
            <a:ext cx="8305560" cy="38862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alidation and Scaling out of Best Practices of RW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ciar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benefici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in the basin (poor, women, unemploy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based service providers and self-help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benefici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e enterprises involve in the value chai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and credit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roa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990720"/>
            <a:ext cx="30481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 Root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48320" y="205740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knowledge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648320" y="152388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48320" y="99072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ing 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648320" y="2666880"/>
            <a:ext cx="4495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play role of facilitation of processes by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8"/>
          <p:cNvSpPr/>
          <p:nvPr/>
        </p:nvSpPr>
        <p:spPr>
          <a:xfrm>
            <a:off x="3505320" y="1905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572000" y="990720"/>
            <a:ext cx="441972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57200" y="464832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munity and stakeholder participation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REG, participatory learning /action research, test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648320" y="3581280"/>
            <a:ext cx="41907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grass root organizations/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to be addressed in th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gap of implem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real participation of the co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Research-extension link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trong/well established input delivery system – technology products and supporting in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value-chain for mark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credit and extension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activit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838080"/>
            <a:ext cx="7238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 and legalize community organizations and user groups (considering social strata or typolo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p with communication facility, learning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learning tools – (WAT-a-GAME, participatory lear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and empower the community for decision making on resources management, grant management, leadership, facilitation and ownership of proc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apacity develop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ining main actors – DAs, watershed committee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power regulatory functions –enforce ru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erience shar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ing facil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62920" y="0"/>
            <a:ext cx="1981080" cy="825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undary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7210440" y="1143000"/>
            <a:ext cx="1933560" cy="11912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ill.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5"/>
          <p:cNvSpPr/>
          <p:nvPr/>
        </p:nvSpPr>
        <p:spPr>
          <a:xfrm>
            <a:off x="807732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inkage and coope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engage in planning, implementation, M&amp;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 platforms at different lev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Value-cha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ganize actors in the value chain – input, produ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 marketing syste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search and ex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lection of technologies and best practices – WHAT? and WHE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tion research  (and valid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ess and impact monitor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22:27:14Z</dcterms:created>
  <dc:creator>Gizaw</dc:creator>
  <dc:description/>
  <dc:language>en-US</dc:language>
  <cp:lastModifiedBy>Mulatu, Meron (ILRI)</cp:lastModifiedBy>
  <dcterms:modified xsi:type="dcterms:W3CDTF">2013-07-26T07:35:08Z</dcterms:modified>
  <cp:revision>6</cp:revision>
  <dc:subject/>
  <dc:title>Group 1</dc:title>
</cp:coreProperties>
</file>